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0585-D29B-4FB3-B27B-FA8568CAD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2B5A-E01E-43A1-A20F-164451D1B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6862-390C-43DB-98B0-5BC6FB9EE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8B35-C45D-464E-BC94-5EBA18896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EF3F-9FF0-47C0-9DAD-EC762351D1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E132-A6A6-42BC-AFD1-5391FB2681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DC8A-EA41-4B4A-81BF-22BC5AE19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EFC-0A90-4B94-BAE0-59E18E6B1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67F4-2768-4AFE-B9B2-C1CF90176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1618-740E-4343-91A8-6BD1C10BD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E82-EF61-466D-9CF0-84AE469A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9FC-97C1-41B8-BFF1-6EFF407B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510-2F20-4C99-8A20-DE5A7EF0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568-4E4E-4888-980F-FFAAD0DB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97B-C0B2-4A73-B430-E48DFA9B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9BC-C64A-44BE-B13E-E6DBE17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93A-60AE-4729-BAFF-DFC0355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C0C-7729-42C9-9471-676198EE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AB6-F993-466D-A7FE-00E58E58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1AC-C203-4C16-9EDF-186510E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3A4-95A0-45FB-A5F7-8846842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D9B-4C53-4A4E-8539-1B27F0F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191-C5C4-4F74-A619-ADB52F3C83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50920" y="907920"/>
            <a:ext cx="87519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GHelveticaCyr"/>
              </a:rPr>
              <a:t>ADEM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овые модул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DEM N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торы прямого чтения SW, Pro-E, Invento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ia v.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оду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 P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AM Exp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dem.r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04840" y="11970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GHelveticaCyr"/>
              </a:rPr>
              <a:t>Определение загот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187280" y="1882800"/>
            <a:ext cx="5208840" cy="3205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3"/>
          <a:stretch/>
        </p:blipFill>
        <p:spPr>
          <a:xfrm>
            <a:off x="5216400" y="3772080"/>
            <a:ext cx="2673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04840" y="11970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Определение прижи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1378080" y="2060640"/>
            <a:ext cx="58579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04840" y="11746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менение</a:t>
            </a: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 подобранного инстру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5450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41520" y="1089000"/>
            <a:ext cx="794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менение</a:t>
            </a: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 автоматически заданных пере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1114560" y="1916280"/>
            <a:ext cx="69134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ADEM logo"/>
          <p:cNvPicPr/>
          <p:nvPr/>
        </p:nvPicPr>
        <p:blipFill>
          <a:blip r:embed="rId1"/>
          <a:stretch/>
        </p:blipFill>
        <p:spPr>
          <a:xfrm>
            <a:off x="6404040" y="404640"/>
            <a:ext cx="2209680" cy="59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484360" y="1844640"/>
            <a:ext cx="381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1187280" y="2852640"/>
            <a:ext cx="707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GHelveticaCyr"/>
              </a:rPr>
              <a:t>Сформированный маршрут об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GHelveticaCyr"/>
              </a:rPr>
              <a:t>Траектория движения инстру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GHelveticaCyr"/>
              </a:rPr>
              <a:t>Автоматически подобранный инструмент и режимы рез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GHelveticaCyr"/>
              </a:rPr>
              <a:t>Управляющая програм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GHelveticaCyr"/>
              </a:rPr>
              <a:t>Возможность формирования сопутствующей докум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ADEM logo"/>
          <p:cNvPicPr/>
          <p:nvPr/>
        </p:nvPicPr>
        <p:blipFill>
          <a:blip r:embed="rId1"/>
          <a:stretch/>
        </p:blipFill>
        <p:spPr>
          <a:xfrm>
            <a:off x="6404040" y="404640"/>
            <a:ext cx="2209680" cy="59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484360" y="1844640"/>
            <a:ext cx="381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ращение к преподавател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324000" y="285264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осьба ознакомиться в общих чертах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ttp://www.adem.ru/press/atricles/modul-adem-cam-expert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 дать свое виде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 пользе пр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нения данной разработки в учебном проце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239760" y="299736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GHelveticaCyr"/>
              </a:rPr>
              <a:t>ADEM CAM EXPE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567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Основное назнач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1403280" y="53737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GHelveticaCyr"/>
              </a:rPr>
              <a:t>Сокращение сроков и трудоемкости подготовки данных для </a:t>
            </a: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CAM</a:t>
            </a:r>
            <a:r>
              <a:rPr b="1" lang="ru-RU" sz="1800" spc="-1" strike="noStrike">
                <a:solidFill>
                  <a:srgbClr val="0d0d0d"/>
                </a:solidFill>
                <a:latin typeface="AGHelveticaCyr"/>
              </a:rPr>
              <a:t>, </a:t>
            </a: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CAPP </a:t>
            </a:r>
            <a:r>
              <a:rPr b="1" lang="ru-RU" sz="1800" spc="-1" strike="noStrike">
                <a:solidFill>
                  <a:srgbClr val="0d0d0d"/>
                </a:solidFill>
                <a:latin typeface="AGHelveticaCyr"/>
              </a:rPr>
              <a:t>и других технологических САП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771640" y="2276640"/>
            <a:ext cx="42674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684360" y="184464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Подготовка данных в части фрезерной, сверлильно-расточной, электроэрозионной и лазерной механообработки. Некоторые примеры деталей, для которых применение модуля позволяет снизить трудоемкость программирования ЧПУ в раз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841400" y="1052640"/>
            <a:ext cx="5389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Область при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006720" cy="2765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539640" y="3254400"/>
            <a:ext cx="330048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4"/>
          <a:stretch/>
        </p:blipFill>
        <p:spPr>
          <a:xfrm>
            <a:off x="6005520" y="3224160"/>
            <a:ext cx="25131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4116240" y="2133720"/>
            <a:ext cx="477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Существенного снижения рутинной работы по определению геометрии обрабо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Исключения ошибок идентификации конструктивных элементов при указании визуально трудно распознаваемых объектов, например поверхностей с малыми отклонениями от плоскостности, вертикальности и горизонтальности и т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А также в учебных целях для получения навыков представления детали системой технологических конструктивных эле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476360" y="1254240"/>
            <a:ext cx="64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Модуль играет важную роль для</a:t>
            </a:r>
            <a:r>
              <a:rPr b="0" lang="en-US" sz="2400" spc="-1" strike="noStrike">
                <a:solidFill>
                  <a:srgbClr val="ff0000"/>
                </a:solidFill>
                <a:latin typeface="AGHelveticaCy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808200" y="2671920"/>
            <a:ext cx="3108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468360" y="5657760"/>
            <a:ext cx="831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GHelveticaCyr"/>
              </a:rPr>
              <a:t>Основным исходным данным для работы является 3</a:t>
            </a:r>
            <a:r>
              <a:rPr b="1" lang="en-US" sz="1800" spc="-1" strike="noStrike">
                <a:solidFill>
                  <a:srgbClr val="0d0d0d"/>
                </a:solidFill>
                <a:latin typeface="AGHelveticaCyr"/>
              </a:rPr>
              <a:t>D</a:t>
            </a:r>
            <a:r>
              <a:rPr b="1" lang="ru-RU" sz="1800" spc="-1" strike="noStrike">
                <a:solidFill>
                  <a:srgbClr val="0d0d0d"/>
                </a:solidFill>
                <a:latin typeface="AGHelveticaCyr"/>
              </a:rPr>
              <a:t> модель дет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755640" y="20210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GHelveticaCyr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3498840" cy="3272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2894040" y="1279440"/>
            <a:ext cx="36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Исходные да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547640" y="126684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GHelveticaCyr"/>
              </a:rPr>
              <a:t>Меню модуля </a:t>
            </a: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ADEM CAM Exp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272880" y="2333520"/>
            <a:ext cx="8763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04840" y="11970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HelveticaCyr"/>
              </a:rPr>
              <a:t>Анализ К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2"/>
          <a:stretch/>
        </p:blipFill>
        <p:spPr>
          <a:xfrm>
            <a:off x="1763640" y="1879560"/>
            <a:ext cx="62103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292"/>
            </a:gs>
            <a:gs pos="100000">
              <a:srgbClr val="839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ADEM logo"/>
          <p:cNvPicPr/>
          <p:nvPr/>
        </p:nvPicPr>
        <p:blipFill>
          <a:blip r:embed="rId1"/>
          <a:stretch/>
        </p:blipFill>
        <p:spPr>
          <a:xfrm>
            <a:off x="6553080" y="304920"/>
            <a:ext cx="2210040" cy="593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11620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GHelveticaCyr"/>
              </a:rPr>
              <a:t>Общие сведения о де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1387440" y="2133720"/>
            <a:ext cx="5135760" cy="3160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3"/>
          <a:stretch/>
        </p:blipFill>
        <p:spPr>
          <a:xfrm>
            <a:off x="4735440" y="2781360"/>
            <a:ext cx="402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24:30Z</dcterms:created>
  <dc:creator>Konstantin Karabcheev</dc:creator>
  <dc:description/>
  <dc:language>en-US</dc:language>
  <cp:lastModifiedBy>catrin</cp:lastModifiedBy>
  <dcterms:modified xsi:type="dcterms:W3CDTF">2013-11-29T14:43:19Z</dcterms:modified>
  <cp:revision>109</cp:revision>
  <dc:subject/>
  <dc:title>Презентация PowerPoint</dc:title>
</cp:coreProperties>
</file>